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0EB0-93A7-48D6-B315-C515A3F6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C5C0-AF97-467E-B910-F90B694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4BD5-F4C2-4849-BD00-08CEA2D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12A4-33E7-462A-8BE4-ECDC74F0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6CD1-A0C9-4276-BAE0-027E76E9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D848-43AA-4ADA-885B-9C33CE4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85C-51E9-4A40-AE6F-5423E442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733B-3110-4F20-AA2C-C692B52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7071-ADD5-49AB-BA33-55EC37B3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8D0B-9428-4A59-8986-510CDBD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A6-F2B0-4125-8CD5-23C1A8A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788D-0F93-4B53-8CE2-3A13104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2107-6063-4E27-A966-2A6E0ECB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8864-2084-405A-AAA6-CA139D2F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CEF-8194-4332-81FD-051CE23E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BFD2-5BD6-4E7C-A16F-16550B09C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61CA-05F0-4016-B14E-38359E91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DA1A-6338-4B29-B582-8CDD3D9B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280E-43F4-4CF9-B09D-E9E61490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B3AAF-AC31-493E-B8FA-ADC47552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CE3A-2739-414A-BA9F-88609F5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BFE76-C618-4040-A107-D968684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1E3D-FC82-4320-9856-549C43F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5C6B-8516-439C-8B70-81DEF923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2C5C-323C-4361-B60E-47B82909B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234-F2D4-4EED-9968-AE76F02D0C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La clase de espanol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0|@|\|d0 y D@|\/|0|\|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e8ba"/>
                </a:solidFill>
                <a:latin typeface="Old English Text MT"/>
              </a:rPr>
              <a:t>los deportes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cer me gust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volleyball no me gust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basketboll me enkanta mush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624852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Old English Text MT"/>
              </a:rPr>
              <a:t>La famil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6:58Z</dcterms:created>
  <dc:creator>WSFCS Workstation</dc:creator>
  <dc:description/>
  <dc:language>en-US</dc:language>
  <cp:lastModifiedBy>WSFCS Workstation</cp:lastModifiedBy>
  <dcterms:modified xsi:type="dcterms:W3CDTF">2010-04-28T18:54:24Z</dcterms:modified>
  <cp:revision>4</cp:revision>
  <dc:subject/>
  <dc:title>La clase de espanol</dc:title>
</cp:coreProperties>
</file>